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8CB93-ED48-44A1-822A-C853A77717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not flas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not pre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rel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n effective mechanism for moving a lot of information a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cus of our group is providing the database… not the interf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6 Billion rows of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years worth of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llet #2 under AQ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“owners” maintain their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s can be performed any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undergoes a screening process before it is allowed into the system (data integrity &amp; statistical anomali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Registration is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08D6-E3FA-46DE-86D6-5A2E4EC89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E400-9F81-46C7-A11A-ECDB44A08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5260-7303-440E-927F-DB7C97254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3B88-32D3-4E17-AA7A-CCBBDD656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89274-F9E2-4749-9774-24678524D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19E90-9B55-40BD-B040-B0FF907A6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F3EEA-B14C-4DB8-976F-274C24940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3E14C-51CA-4E75-A88B-40A18D707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23687-622C-4DD5-973C-F85902C9F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46ABA-D7E2-498E-BD85-B86C6F899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0F8F8-E813-4929-B395-713307558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49A1-BCEB-4D40-B88A-0B8C99877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A8665-F882-4963-B049-642E50020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24C1D-14F9-4AF3-8867-997EED45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F4F0E-BEF2-41E9-B862-B1A77B60C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48C7D-7F8A-44DA-8A01-378220E39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DA405-ACFB-44E7-B0B9-EA155949A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BB32-91B1-4050-8FB4-4B6E65412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A828-AA92-46CF-9541-B81337793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0516-472C-48AD-BB30-BF33014E9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EC65-F2AE-416A-BDFC-6201110C6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3DA9-DFC2-4494-A355-A0D588E7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BAFF-7E7A-48CE-BC26-C523DE83F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D929-13E1-4FA3-B194-AB99C4A78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E987A-5890-4AB4-8995-911E447415C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15DAE-7D0E-495D-B227-48DFB1FAA3A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QS Overview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onathan Mill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AQPS – National Air Data Grou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Image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9677520" y="1905120"/>
            <a:ext cx="4089240" cy="34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4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379 -0.02454 C 0.0698 -0.03518 0.01823 0.08079 0.01337 0.08079 C -0.09826 0.08843 -0.39479 0.02477 -0.53194 0.02361 C -0.60954 0.01968 -0.72048 0.0706 -0.75746 0.07477 C -0.75746 0.05347 -0.78489 0.04838 -0.78888 0.04838 C -0.79288 0.04838 -0.81215 0.05139 -0.81215 0.07153 C -0.81215 0.06088 -0.81371 0.05602 -0.81562 0.05602 C -0.81666 0.05602 -0.82256 0.06412 -0.82256 0.07477 C -0.82256 0.06945 -0.83454 0.0625 -0.83559 0.0625 C -0.83559 0.06111 -0.83767 0.06783 -0.83767 0.07315 C -0.83767 0.07037 -0.83767 0.06783 -0.83871 0.06783 C -0.83871 0.06921 -0.83975 0.0706 -0.83975 0.07315 C -0.83975 0.07176 -0.83975 0.07037 -0.83975 0.06921 C -0.8401 0.06852 -0.84131 0.06875 -0.84184 0.06921 C -0.84288 0.06921 -0.84288 0.0706 -0.84288 0.07199 E">
                                      <p:cBhvr>
                                        <p:cTn id="6" dur="5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es of Data Availab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mbient Air Quality Dat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ated Averag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mmarized Dat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cision &amp; Bi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te and Monitor Metadat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8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AQS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&amp;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QS DataMa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AQ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signed for S/L/T to Enter Dat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formation Updated Continuousl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tailed Data 1993+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ust Register to Us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5 Reports Availabl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verage 50,000 Reports / Yea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dHoc Queries Available Through Oracle Discoverer (~15,000 Queries / Year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QS DataMar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signed for Researchers / Academia Queri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pdated from AQS Nightly (5x/week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tailed Data 1980+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ed an Exchange Network Node Accoun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6 Web Services Availabl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007:  5B Records Queri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ource Datastore for Other Applications (AirCompare &amp; RSIG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1981440" cy="40384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533520" y="457200"/>
            <a:ext cx="4647960" cy="1676520"/>
          </a:xfrm>
          <a:prstGeom prst="wedgeRoundRectCallout">
            <a:avLst>
              <a:gd name="adj1" fmla="val 50101"/>
              <a:gd name="adj2" fmla="val 73009"/>
              <a:gd name="adj3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don’t know much about data management, but I know what I hat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43000" y="16002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 I don’t hate thi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3050"/>
                            </p:stCondLst>
                            <p:childTnLst>
                              <p:par>
                                <p:cTn id="117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5T15:59:05Z</dcterms:created>
  <dc:creator>jmille09</dc:creator>
  <dc:description/>
  <dc:language>en-US</dc:language>
  <cp:lastModifiedBy>Administrator</cp:lastModifiedBy>
  <dcterms:modified xsi:type="dcterms:W3CDTF">2008-02-27T16:25:41Z</dcterms:modified>
  <cp:revision>7</cp:revision>
  <dc:subject/>
  <dc:title>AQS Overview</dc:title>
</cp:coreProperties>
</file>